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A39-ABE2-46A5-96B6-8F3ED979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48A-B6C5-4AD5-A256-A027B5DE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3C6-4956-4FD5-986D-FEACEF30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09D-A40A-4167-9285-8C5F2676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CCE-6873-43EB-92DA-7DA5F006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B4E-7DA7-4C26-ACA2-A2F62430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7BC-34E6-4E68-AE2E-5D8401AC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D8D-1146-40CD-BF04-60B52D7E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0F3-2F1D-4B61-B940-783C9AA5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26F-7A97-4CB8-B35E-939C43F5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893-8596-4B0B-BE89-2B1F8473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14D-56A4-4125-838E-93334E2C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4641-87FE-4AD5-9B2F-98807D1595A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D05296_"/>
          <p:cNvPicPr/>
          <p:nvPr/>
        </p:nvPicPr>
        <p:blipFill>
          <a:blip r:embed="rId1"/>
          <a:stretch/>
        </p:blipFill>
        <p:spPr>
          <a:xfrm>
            <a:off x="363600" y="3282840"/>
            <a:ext cx="3522600" cy="32702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5003640" y="5994360"/>
            <a:ext cx="3591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ís. Abraham Vilchis Uribe 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826920" y="692280"/>
            <a:ext cx="605340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ínimos Cuadrados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4684680" y="2579760"/>
            <a:ext cx="3848040" cy="27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étodo objetivo pa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encontr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La ecuación de u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Modelo Line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800" spc="-1" strike="noStrike">
                <a:solidFill>
                  <a:srgbClr val="333300"/>
                </a:solidFill>
                <a:latin typeface="Times New Roman"/>
              </a:rPr>
              <a:t>RAZA-MOS LA </a:t>
            </a:r>
            <a:r>
              <a:rPr b="1" i="1" lang="es-MX" sz="2800" spc="-1" strike="noStrike">
                <a:solidFill>
                  <a:srgbClr val="cc0000"/>
                </a:solidFill>
                <a:latin typeface="Times New Roman"/>
              </a:rPr>
              <a:t>MEJOR RECTA</a:t>
            </a:r>
            <a:r>
              <a:rPr b="0" lang="es-MX" sz="2800" spc="-1" strike="noStrike">
                <a:solidFill>
                  <a:srgbClr val="333300"/>
                </a:solidFill>
                <a:latin typeface="Times New Roman"/>
              </a:rPr>
              <a:t> DE TAL MANERA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4"/>
          <p:cNvSpPr/>
          <p:nvPr/>
        </p:nvSpPr>
        <p:spPr>
          <a:xfrm>
            <a:off x="3200400" y="19810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048120" y="61722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971800" y="6172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4267080" y="4495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3124080" y="3200040"/>
            <a:ext cx="4876920" cy="2438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3526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038480" y="525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876920" y="4800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5105520" y="4267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638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8672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6477120" y="3962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6705720" y="3429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7315200" y="350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7467480" y="3048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8153280" y="620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2971800" y="1905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77724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42"/>
          <p:cNvSpPr/>
          <p:nvPr/>
        </p:nvSpPr>
        <p:spPr>
          <a:xfrm>
            <a:off x="7939080" y="3005280"/>
            <a:ext cx="291960" cy="203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0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RITERIO: 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La distancia, 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δ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y, del punto experimental a la “mejor recta”, L, es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3200400" y="19810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3048120" y="61722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971800" y="6172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267080" y="4495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"/>
          <p:cNvSpPr/>
          <p:nvPr/>
        </p:nvSpPr>
        <p:spPr>
          <a:xfrm flipV="1">
            <a:off x="3124080" y="3200040"/>
            <a:ext cx="4876920" cy="2438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3526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038480" y="525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876920" y="4800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105520" y="4267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638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8672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6477120" y="3962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6705720" y="3429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7315200" y="350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7467480" y="3048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4419720" y="4648320"/>
            <a:ext cx="0" cy="3808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8153280" y="620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971800" y="1905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44197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3"/>
          <p:cNvSpPr/>
          <p:nvPr/>
        </p:nvSpPr>
        <p:spPr>
          <a:xfrm>
            <a:off x="4441680" y="4419720"/>
            <a:ext cx="206640" cy="414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4724280" y="4495680"/>
            <a:ext cx="39625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y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(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77724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42"/>
          <p:cNvSpPr/>
          <p:nvPr/>
        </p:nvSpPr>
        <p:spPr>
          <a:xfrm>
            <a:off x="7939080" y="3005280"/>
            <a:ext cx="291960" cy="203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0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RITERIO: 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La distancia, 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δ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y, del punto experimental a la “mejor recta”, L, es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Times New Roman"/>
              </a:rPr>
              <a:t>Para todos los pu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200400" y="19810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048120" y="61722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971800" y="6172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267080" y="4495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3124080" y="3200040"/>
            <a:ext cx="4876920" cy="2438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3526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038480" y="525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76920" y="4800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105520" y="4267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5638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58672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477120" y="3962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705720" y="3429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7315200" y="350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7467480" y="3048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4419720" y="4648320"/>
            <a:ext cx="0" cy="3808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8153280" y="620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2971800" y="1905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4197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23"/>
          <p:cNvSpPr/>
          <p:nvPr/>
        </p:nvSpPr>
        <p:spPr>
          <a:xfrm>
            <a:off x="4441680" y="4419720"/>
            <a:ext cx="206640" cy="414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3505320" y="518148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4191120" y="5105520"/>
            <a:ext cx="0" cy="3045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5029200" y="4648320"/>
            <a:ext cx="0" cy="3045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5257800" y="4419720"/>
            <a:ext cx="0" cy="152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5791320" y="426708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6019920" y="396252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0"/>
          <p:cNvSpPr/>
          <p:nvPr/>
        </p:nvSpPr>
        <p:spPr>
          <a:xfrm>
            <a:off x="6629400" y="388620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6858000" y="3581280"/>
            <a:ext cx="0" cy="1526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7467480" y="342900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3"/>
          <p:cNvSpPr/>
          <p:nvPr/>
        </p:nvSpPr>
        <p:spPr>
          <a:xfrm>
            <a:off x="7620120" y="3200400"/>
            <a:ext cx="0" cy="152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4"/>
          <p:cNvSpPr/>
          <p:nvPr/>
        </p:nvSpPr>
        <p:spPr>
          <a:xfrm>
            <a:off x="4419720" y="4648320"/>
            <a:ext cx="0" cy="1523880"/>
          </a:xfrm>
          <a:prstGeom prst="line">
            <a:avLst/>
          </a:prstGeom>
          <a:ln w="12600">
            <a:solidFill>
              <a:srgbClr val="ff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5"/>
          <p:cNvSpPr/>
          <p:nvPr/>
        </p:nvSpPr>
        <p:spPr>
          <a:xfrm flipH="1">
            <a:off x="3200040" y="4648320"/>
            <a:ext cx="1219320" cy="0"/>
          </a:xfrm>
          <a:prstGeom prst="line">
            <a:avLst/>
          </a:prstGeom>
          <a:ln w="12600">
            <a:solidFill>
              <a:srgbClr val="ff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6"/>
          <p:cNvSpPr/>
          <p:nvPr/>
        </p:nvSpPr>
        <p:spPr>
          <a:xfrm flipH="1">
            <a:off x="3200040" y="4952880"/>
            <a:ext cx="1219320" cy="0"/>
          </a:xfrm>
          <a:prstGeom prst="line">
            <a:avLst/>
          </a:prstGeom>
          <a:ln w="12600">
            <a:solidFill>
              <a:srgbClr val="ff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4267080" y="6172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MX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8"/>
          <p:cNvSpPr/>
          <p:nvPr/>
        </p:nvSpPr>
        <p:spPr>
          <a:xfrm>
            <a:off x="2819520" y="44956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MX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9"/>
          <p:cNvSpPr/>
          <p:nvPr/>
        </p:nvSpPr>
        <p:spPr>
          <a:xfrm>
            <a:off x="2666880" y="483084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x</a:t>
            </a:r>
            <a:r>
              <a:rPr b="0" lang="es-MX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0"/>
          <p:cNvSpPr/>
          <p:nvPr/>
        </p:nvSpPr>
        <p:spPr>
          <a:xfrm>
            <a:off x="4724280" y="4495680"/>
            <a:ext cx="39625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y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(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δ</a:t>
            </a:r>
            <a:r>
              <a:rPr b="0" lang="es-MX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y = y</a:t>
            </a:r>
            <a:r>
              <a:rPr b="0" lang="es-MX" sz="2400" spc="-1" strike="noStrike" baseline="-25000">
                <a:solidFill>
                  <a:srgbClr val="ff33ff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 – (mx</a:t>
            </a:r>
            <a:r>
              <a:rPr b="0" lang="es-MX" sz="2400" spc="-1" strike="noStrike" baseline="-25000">
                <a:solidFill>
                  <a:srgbClr val="ff33ff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 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1"/>
          <p:cNvSpPr/>
          <p:nvPr/>
        </p:nvSpPr>
        <p:spPr>
          <a:xfrm>
            <a:off x="77724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42"/>
          <p:cNvSpPr/>
          <p:nvPr/>
        </p:nvSpPr>
        <p:spPr>
          <a:xfrm>
            <a:off x="7939080" y="3005280"/>
            <a:ext cx="291960" cy="203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05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RITERIO: 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La distancia, 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δ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y, del punto experimental a la “mejor recta”, L, es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Times New Roman"/>
              </a:rPr>
              <a:t>Esta distancia se tomará al cuad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3200400" y="19810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3048120" y="61722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971800" y="6172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7080" y="4495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3124080" y="3200040"/>
            <a:ext cx="4876920" cy="2438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3526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4038480" y="525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876920" y="4800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105520" y="4267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5638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58672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6477120" y="3962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6705720" y="3429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315200" y="350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7467480" y="3048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419720" y="4648320"/>
            <a:ext cx="0" cy="3808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8153280" y="620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971800" y="1905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3"/>
          <p:cNvSpPr/>
          <p:nvPr/>
        </p:nvSpPr>
        <p:spPr>
          <a:xfrm>
            <a:off x="4441680" y="4419720"/>
            <a:ext cx="206640" cy="414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4"/>
          <p:cNvSpPr/>
          <p:nvPr/>
        </p:nvSpPr>
        <p:spPr>
          <a:xfrm>
            <a:off x="3505320" y="518148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5"/>
          <p:cNvSpPr/>
          <p:nvPr/>
        </p:nvSpPr>
        <p:spPr>
          <a:xfrm>
            <a:off x="4191120" y="5105520"/>
            <a:ext cx="0" cy="3045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6"/>
          <p:cNvSpPr/>
          <p:nvPr/>
        </p:nvSpPr>
        <p:spPr>
          <a:xfrm>
            <a:off x="5029200" y="4648320"/>
            <a:ext cx="0" cy="3045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7"/>
          <p:cNvSpPr/>
          <p:nvPr/>
        </p:nvSpPr>
        <p:spPr>
          <a:xfrm>
            <a:off x="5257800" y="4419720"/>
            <a:ext cx="0" cy="152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8"/>
          <p:cNvSpPr/>
          <p:nvPr/>
        </p:nvSpPr>
        <p:spPr>
          <a:xfrm>
            <a:off x="5791320" y="426708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6019920" y="396252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0"/>
          <p:cNvSpPr/>
          <p:nvPr/>
        </p:nvSpPr>
        <p:spPr>
          <a:xfrm>
            <a:off x="6629400" y="388620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6858000" y="3581280"/>
            <a:ext cx="0" cy="1526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7467480" y="3429000"/>
            <a:ext cx="0" cy="228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3"/>
          <p:cNvSpPr/>
          <p:nvPr/>
        </p:nvSpPr>
        <p:spPr>
          <a:xfrm>
            <a:off x="7620120" y="3200400"/>
            <a:ext cx="0" cy="152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4419720" y="4648320"/>
            <a:ext cx="0" cy="1523880"/>
          </a:xfrm>
          <a:prstGeom prst="line">
            <a:avLst/>
          </a:prstGeom>
          <a:ln w="12600">
            <a:solidFill>
              <a:srgbClr val="ff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5"/>
          <p:cNvSpPr/>
          <p:nvPr/>
        </p:nvSpPr>
        <p:spPr>
          <a:xfrm flipH="1">
            <a:off x="3200040" y="4648320"/>
            <a:ext cx="1219320" cy="0"/>
          </a:xfrm>
          <a:prstGeom prst="line">
            <a:avLst/>
          </a:prstGeom>
          <a:ln w="12600">
            <a:solidFill>
              <a:srgbClr val="ff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6"/>
          <p:cNvSpPr/>
          <p:nvPr/>
        </p:nvSpPr>
        <p:spPr>
          <a:xfrm flipH="1">
            <a:off x="3200040" y="4952880"/>
            <a:ext cx="1219320" cy="0"/>
          </a:xfrm>
          <a:prstGeom prst="line">
            <a:avLst/>
          </a:prstGeom>
          <a:ln w="12600">
            <a:solidFill>
              <a:srgbClr val="ff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7"/>
          <p:cNvSpPr/>
          <p:nvPr/>
        </p:nvSpPr>
        <p:spPr>
          <a:xfrm>
            <a:off x="4267080" y="6172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MX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2819520" y="44956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MX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9"/>
          <p:cNvSpPr/>
          <p:nvPr/>
        </p:nvSpPr>
        <p:spPr>
          <a:xfrm>
            <a:off x="2666880" y="483084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x</a:t>
            </a:r>
            <a:r>
              <a:rPr b="0" lang="es-MX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0"/>
          <p:cNvSpPr/>
          <p:nvPr/>
        </p:nvSpPr>
        <p:spPr>
          <a:xfrm>
            <a:off x="4724280" y="4495680"/>
            <a:ext cx="396252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y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(x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δ</a:t>
            </a:r>
            <a:r>
              <a:rPr b="0" lang="es-MX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y = y</a:t>
            </a:r>
            <a:r>
              <a:rPr b="0" lang="es-MX" sz="2400" spc="-1" strike="noStrike" baseline="-25000">
                <a:solidFill>
                  <a:srgbClr val="ff33ff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 – (mx</a:t>
            </a:r>
            <a:r>
              <a:rPr b="0" lang="es-MX" sz="2400" spc="-1" strike="noStrike" baseline="-25000">
                <a:solidFill>
                  <a:srgbClr val="ff33ff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 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δ</a:t>
            </a:r>
            <a:r>
              <a:rPr b="0" lang="es-MX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y</a:t>
            </a:r>
            <a:r>
              <a:rPr b="0" lang="es-MX" sz="2400" spc="-1" strike="noStrike" baseline="30000">
                <a:solidFill>
                  <a:srgbClr val="333300"/>
                </a:solidFill>
                <a:latin typeface="Times New Roman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=[ y</a:t>
            </a:r>
            <a:r>
              <a:rPr b="0" lang="es-MX" sz="2400" spc="-1" strike="noStrike" baseline="-25000">
                <a:solidFill>
                  <a:srgbClr val="3333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– (mx</a:t>
            </a:r>
            <a:r>
              <a:rPr b="0" lang="es-MX" sz="2400" spc="-1" strike="noStrike" baseline="-25000">
                <a:solidFill>
                  <a:srgbClr val="333300"/>
                </a:solidFill>
                <a:latin typeface="Times New Roman"/>
                <a:ea typeface="Times New Roman"/>
              </a:rPr>
              <a:t>i</a:t>
            </a:r>
            <a:r>
              <a:rPr b="0" lang="es-MX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+ b)]</a:t>
            </a:r>
            <a:r>
              <a:rPr b="0" lang="es-MX" sz="2400" spc="-1" strike="noStrike" baseline="30000">
                <a:solidFill>
                  <a:srgbClr val="333300"/>
                </a:solidFill>
                <a:latin typeface="Times New Roman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... Ec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1"/>
          <p:cNvSpPr/>
          <p:nvPr/>
        </p:nvSpPr>
        <p:spPr>
          <a:xfrm>
            <a:off x="77724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42"/>
          <p:cNvSpPr/>
          <p:nvPr/>
        </p:nvSpPr>
        <p:spPr>
          <a:xfrm>
            <a:off x="7939080" y="3005280"/>
            <a:ext cx="291960" cy="203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LCULANDO LOS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pendiente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m,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y de la ordenada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LCULANDO LOS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pendiente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m,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y de la ordenada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533520" y="1676520"/>
            <a:ext cx="784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efectuar la minimización de la ecuación uno respecto a todos los puntos experimentales bajo el criterio de los mínimos cuadrad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LCULANDO LOS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pendiente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m,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y de la ordenada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33520" y="1676520"/>
            <a:ext cx="7848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efectuar la minimización de la ecuación uno respecto a todos los puntos experimentales bajo el criterio de los mínimos cuadrados, el procedimiento nos arroja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el valor de la 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685800" y="3276720"/>
                <a:ext cx="3276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LCULANDO LOS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pendiente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m,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y de la ordenada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533520" y="1676520"/>
            <a:ext cx="7848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efectuar la minimización de la ecuación uno respecto a todos los puntos experimentales bajo el criterio de los mínimos cuadrados, el procedimiento nos arroja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el valor de la pendiente con su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685800" y="3276720"/>
                <a:ext cx="3276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4419720" y="3276720"/>
                <a:ext cx="297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8"/>
              <p:cNvSpPr txBox="1"/>
              <p:nvPr/>
            </p:nvSpPr>
            <p:spPr>
              <a:xfrm>
                <a:off x="4800600" y="5638680"/>
                <a:ext cx="23623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m</m:t>
                                                </m:r>
                                              </m:e>
                                            </m:acc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LCULANDO LOS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pendiente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m,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y de la ordenada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33520" y="1676520"/>
            <a:ext cx="7848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efectuar la minimización de la ecuación uno respecto a todos los puntos experimentales bajo el criterio de los mínimos cuadrados, el procedimiento nos arroja </a:t>
            </a:r>
            <a:r>
              <a:rPr b="0" lang="es-MX" sz="2000" spc="-1" strike="noStrike">
                <a:solidFill>
                  <a:srgbClr val="cc0000"/>
                </a:solidFill>
                <a:latin typeface="Times New Roman"/>
              </a:rPr>
              <a:t>el valor de la pendiente con su erro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, y de la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ordenada al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685800" y="4495680"/>
                <a:ext cx="33526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685800" y="3276720"/>
                <a:ext cx="3276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4419720" y="3276720"/>
                <a:ext cx="297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4800600" y="5638680"/>
                <a:ext cx="23623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m</m:t>
                                                </m:r>
                                              </m:e>
                                            </m:acc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LCULANDO LOS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pendiente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m,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y de la ordenada, </a:t>
            </a:r>
            <a:r>
              <a:rPr b="1" lang="es-MX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33520" y="1676520"/>
            <a:ext cx="7848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efectuar la minimización de la ecuación uno respecto a todos los puntos experimentales bajo el criterio de los mínimos cuadrados, el procedimiento nos arroja </a:t>
            </a:r>
            <a:r>
              <a:rPr b="0" lang="es-MX" sz="2000" spc="-1" strike="noStrike">
                <a:solidFill>
                  <a:srgbClr val="cc0000"/>
                </a:solidFill>
                <a:latin typeface="Times New Roman"/>
              </a:rPr>
              <a:t>el valor de la pendiente con su erro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, y de la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ordenada al origen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con su erro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; de la “mejor recta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85800" y="4495680"/>
                <a:ext cx="33526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685800" y="3276720"/>
                <a:ext cx="3276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4419720" y="3276720"/>
                <a:ext cx="297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7"/>
              <p:cNvSpPr txBox="1"/>
              <p:nvPr/>
            </p:nvSpPr>
            <p:spPr>
              <a:xfrm>
                <a:off x="4495680" y="4419720"/>
                <a:ext cx="2718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4800600" y="5638680"/>
                <a:ext cx="23623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m</m:t>
                                                </m:r>
                                              </m:e>
                                            </m:acc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b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Resumen del Método 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Times New Roman"/>
              </a:rPr>
              <a:t>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99ff"/>
                </a:solidFill>
                <a:latin typeface="Times New Roman"/>
              </a:rPr>
              <a:t>Es subjetivo, depende de</a:t>
            </a:r>
            <a:r>
              <a:rPr b="0" lang="es-MX" sz="2400" spc="-1" strike="noStrike">
                <a:solidFill>
                  <a:srgbClr val="3399ff"/>
                </a:solidFill>
                <a:latin typeface="Times New Roman"/>
              </a:rPr>
              <a:t> la persona que grafica y de su criterio</a:t>
            </a:r>
            <a:r>
              <a:rPr b="0" lang="es-ES" sz="2400" spc="-1" strike="noStrike">
                <a:solidFill>
                  <a:srgbClr val="3399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99ff"/>
                </a:solidFill>
                <a:latin typeface="Times New Roman"/>
              </a:rPr>
              <a:t>Proporciona</a:t>
            </a:r>
            <a:r>
              <a:rPr b="0" lang="es-ES" sz="2400" spc="-1" strike="noStrike">
                <a:solidFill>
                  <a:srgbClr val="3399ff"/>
                </a:solidFill>
                <a:latin typeface="Times New Roman"/>
              </a:rPr>
              <a:t> un intervalos grande y pesim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99ff"/>
                </a:solidFill>
                <a:latin typeface="Times New Roman"/>
              </a:rPr>
              <a:t>No es reproducible, cada experimentador proporci</a:t>
            </a:r>
            <a:r>
              <a:rPr b="0" lang="es-MX" sz="2400" spc="-1" strike="noStrike">
                <a:solidFill>
                  <a:srgbClr val="3399ff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3399ff"/>
                </a:solidFill>
                <a:latin typeface="Times New Roman"/>
              </a:rPr>
              <a:t>na diferentes </a:t>
            </a:r>
            <a:r>
              <a:rPr b="0" lang="es-MX" sz="2400" spc="-1" strike="noStrike">
                <a:solidFill>
                  <a:srgbClr val="3399ff"/>
                </a:solidFill>
                <a:latin typeface="Times New Roman"/>
              </a:rPr>
              <a:t>aproximaciones para datos ig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24280" y="198072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99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99"/>
                </a:solidFill>
                <a:latin typeface="Times New Roman"/>
              </a:rPr>
              <a:t>Es buen estimador cuando se tiene pocos resultados (menos de die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0099"/>
                </a:solidFill>
                <a:latin typeface="Times New Roman"/>
              </a:rPr>
              <a:t>Nos permite decidir si vale la pena efectuar un experimento más prec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0099"/>
                </a:solidFill>
                <a:latin typeface="Times New Roman"/>
              </a:rPr>
              <a:t>En caso de no contar con una calculadora o computadora, éste método nos permite efectuar una estimación vál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CRIBIENDO LA ECUACIÓN DEL MODELO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CRIBIENDO LA ECUACIÓN DEL MODELO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533520" y="1676520"/>
            <a:ext cx="784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OBTENER LOS VALORES DE LA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PENDIENT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E LA 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ORDENADA AL ORIGEN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CRIBIENDO LA ECUACIÓN DEL MODELO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533520" y="1676520"/>
            <a:ext cx="784836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OBTENER LOS VALORES DE LA PENDIENTE Y DE LA ORDENADA AL ORIGEN, PODEMOS ENTONCES ESCRIBIR LA </a:t>
            </a:r>
            <a:r>
              <a:rPr b="1" lang="es-MX" sz="2000" spc="-1" strike="noStrike">
                <a:solidFill>
                  <a:srgbClr val="9933ff"/>
                </a:solidFill>
                <a:latin typeface="Times New Roman"/>
              </a:rPr>
              <a:t>ECUACIÓN DE LA RECTA EN LA FORMA USUA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CRIBIENDO LA ECUACIÓN DEL MODELO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533520" y="1676520"/>
            <a:ext cx="784836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OBTENER LOS VALORES DE LA PENDIENTE Y DE LA ORDENADA AL ORIGEN, PODEMOS ENTONCES ESCRIBIR LA ECUACIÓN DE LA RECTA EN LA FORMA USU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s-MX" sz="20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VD =    pendiente   VI  +  ord. al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</a:rPr>
              <a:t>y = (m 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± S</a:t>
            </a:r>
            <a:r>
              <a:rPr b="1" lang="es-MX" sz="28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m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x + (b ± S</a:t>
            </a:r>
            <a:r>
              <a:rPr b="1" lang="es-MX" sz="28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b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donde la </a:t>
            </a:r>
            <a:r>
              <a:rPr b="1" i="1" lang="es-MX" sz="20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y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á en la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idades </a:t>
            </a:r>
            <a:r>
              <a:rPr b="0" i="1" lang="es-MX" sz="20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u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la </a:t>
            </a:r>
            <a:r>
              <a:rPr b="1" i="1" lang="es-MX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á en la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idades </a:t>
            </a:r>
            <a:r>
              <a:rPr b="0" i="1" lang="es-MX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u´</a:t>
            </a:r>
            <a:r>
              <a:rPr b="0" lang="es-MX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CRIBIENDO LA ECUACIÓN DEL MODELO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533520" y="1676520"/>
            <a:ext cx="7848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OBTENER LOS VALORES DE LA PENDIENTE Y DE LA ORDENADA AL ORIGEN, PODEMOS ENTONCES ESCRIBIR LA ECUACIÓN DE LA RECTA EN LA FORMA USU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s-MX" sz="20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VD =    pendiente   VI  +  ord. al or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</a:rPr>
              <a:t>y = (m 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± S</a:t>
            </a:r>
            <a:r>
              <a:rPr b="1" lang="es-MX" sz="28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m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x + (b ± S</a:t>
            </a:r>
            <a:r>
              <a:rPr b="1" lang="es-MX" sz="28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b</a:t>
            </a:r>
            <a:r>
              <a:rPr b="1" lang="es-MX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donde la </a:t>
            </a:r>
            <a:r>
              <a:rPr b="1" i="1" lang="es-MX" sz="20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y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á en la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idades </a:t>
            </a:r>
            <a:r>
              <a:rPr b="0" i="1" lang="es-MX" sz="20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u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la </a:t>
            </a:r>
            <a:r>
              <a:rPr b="1" i="1" lang="es-MX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á en la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idades </a:t>
            </a:r>
            <a:r>
              <a:rPr b="0" i="1" lang="es-MX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u´</a:t>
            </a:r>
            <a:r>
              <a:rPr b="0" lang="es-MX" sz="2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reportar de esta manera, conocemos la ecuación del modelo con un 68% de probabilidad asumiendo que los resultados se distriubuyen normalmen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533520" y="1676520"/>
            <a:ext cx="78483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TOMARON DIFERENTES VALORES DE </a:t>
            </a:r>
            <a:r>
              <a:rPr b="1" i="1" lang="es-MX" sz="1800" spc="-1" strike="noStrike">
                <a:solidFill>
                  <a:srgbClr val="3399ff"/>
                </a:solidFill>
                <a:latin typeface="Times New Roman"/>
              </a:rPr>
              <a:t>MAS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MX" sz="1800" spc="-1" strike="noStrike">
                <a:solidFill>
                  <a:srgbClr val="cc00cc"/>
                </a:solidFill>
                <a:latin typeface="Times New Roman"/>
              </a:rPr>
              <a:t>VOLUME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DE AGUA PARA </a:t>
            </a:r>
            <a:r>
              <a:rPr b="1" lang="es-MX" sz="1800" spc="-1" strike="noStrike">
                <a:solidFill>
                  <a:srgbClr val="330099"/>
                </a:solidFill>
                <a:latin typeface="Times New Roman"/>
              </a:rPr>
              <a:t>DETERMINAR SU REL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Y </a:t>
            </a:r>
            <a:r>
              <a:rPr b="1" lang="es-MX" sz="1800" spc="-1" strike="noStrike">
                <a:solidFill>
                  <a:srgbClr val="330099"/>
                </a:solidFill>
                <a:latin typeface="Times New Roman"/>
              </a:rPr>
              <a:t>LA DENSIDAD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DEL AGUA. </a:t>
            </a:r>
            <a:r>
              <a:rPr b="0" lang="es-MX" sz="1800" spc="-1" strike="noStrike">
                <a:solidFill>
                  <a:srgbClr val="0000ff"/>
                </a:solidFill>
                <a:latin typeface="Times New Roman"/>
              </a:rPr>
              <a:t>SE CONTROLÓ LA MAS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OBTENIÉNDOSE LOS SIGUIENTES RESULT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533520" y="1676520"/>
            <a:ext cx="78483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TOMARON DIFERENTES VALORES DE </a:t>
            </a:r>
            <a:r>
              <a:rPr b="1" i="1" lang="es-MX" sz="1800" spc="-1" strike="noStrike">
                <a:solidFill>
                  <a:srgbClr val="3399ff"/>
                </a:solidFill>
                <a:latin typeface="Times New Roman"/>
              </a:rPr>
              <a:t>MAS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MX" sz="1800" spc="-1" strike="noStrike">
                <a:solidFill>
                  <a:srgbClr val="cc00cc"/>
                </a:solidFill>
                <a:latin typeface="Times New Roman"/>
              </a:rPr>
              <a:t>VOLUME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DE AGUA PARA </a:t>
            </a:r>
            <a:r>
              <a:rPr b="1" lang="es-MX" sz="1800" spc="-1" strike="noStrike">
                <a:solidFill>
                  <a:srgbClr val="330099"/>
                </a:solidFill>
                <a:latin typeface="Times New Roman"/>
              </a:rPr>
              <a:t>DETERMINAR SU REL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Y </a:t>
            </a:r>
            <a:r>
              <a:rPr b="1" lang="es-MX" sz="1800" spc="-1" strike="noStrike">
                <a:solidFill>
                  <a:srgbClr val="330099"/>
                </a:solidFill>
                <a:latin typeface="Times New Roman"/>
              </a:rPr>
              <a:t>LA DENSIDAD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DEL AGUA. </a:t>
            </a:r>
            <a:r>
              <a:rPr b="0" lang="es-MX" sz="1800" spc="-1" strike="noStrike">
                <a:solidFill>
                  <a:srgbClr val="0000ff"/>
                </a:solidFill>
                <a:latin typeface="Times New Roman"/>
              </a:rPr>
              <a:t>SE CONTROLÓ LA MAS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OBTENIÉNDOSE LOS SIGUIENTES RESULT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2971800"/>
          <a:ext cx="3352680" cy="3352680"/>
        </p:xfrm>
        <a:graphic>
          <a:graphicData uri="http://schemas.openxmlformats.org/drawingml/2006/table">
            <a:tbl>
              <a:tblPr/>
              <a:tblGrid>
                <a:gridCol w="1117440"/>
                <a:gridCol w="1117800"/>
                <a:gridCol w="1117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/C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,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0.1,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, ± 0.6,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533520" y="1676520"/>
            <a:ext cx="78483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TOMARON DIFERENTES VALORES DE </a:t>
            </a:r>
            <a:r>
              <a:rPr b="1" i="1" lang="es-MX" sz="1800" spc="-1" strike="noStrike">
                <a:solidFill>
                  <a:srgbClr val="3399ff"/>
                </a:solidFill>
                <a:latin typeface="Times New Roman"/>
              </a:rPr>
              <a:t>MAS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MX" sz="1800" spc="-1" strike="noStrike">
                <a:solidFill>
                  <a:srgbClr val="cc00cc"/>
                </a:solidFill>
                <a:latin typeface="Times New Roman"/>
              </a:rPr>
              <a:t>VOLUME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DE AGUA PARA </a:t>
            </a:r>
            <a:r>
              <a:rPr b="1" lang="es-MX" sz="1800" spc="-1" strike="noStrike">
                <a:solidFill>
                  <a:srgbClr val="330099"/>
                </a:solidFill>
                <a:latin typeface="Times New Roman"/>
              </a:rPr>
              <a:t>DETERMINAR SU REL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Y </a:t>
            </a:r>
            <a:r>
              <a:rPr b="1" lang="es-MX" sz="1800" spc="-1" strike="noStrike">
                <a:solidFill>
                  <a:srgbClr val="330099"/>
                </a:solidFill>
                <a:latin typeface="Times New Roman"/>
              </a:rPr>
              <a:t>LA DENSIDAD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DEL AGUA. </a:t>
            </a:r>
            <a:r>
              <a:rPr b="0" lang="es-MX" sz="1800" spc="-1" strike="noStrike">
                <a:solidFill>
                  <a:srgbClr val="0000ff"/>
                </a:solidFill>
                <a:latin typeface="Times New Roman"/>
              </a:rPr>
              <a:t>SE CONTROLÓ LA MAS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OBTENIÉNDOSE LOS SIGUIENTES RESULT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2120" y="2971800"/>
          <a:ext cx="3352680" cy="3352680"/>
        </p:xfrm>
        <a:graphic>
          <a:graphicData uri="http://schemas.openxmlformats.org/drawingml/2006/table">
            <a:tbl>
              <a:tblPr/>
              <a:tblGrid>
                <a:gridCol w="1117440"/>
                <a:gridCol w="1117800"/>
                <a:gridCol w="1117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/CA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,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0.1,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, ± 0.6,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55"/>
          <p:cNvSpPr/>
          <p:nvPr/>
        </p:nvSpPr>
        <p:spPr>
          <a:xfrm>
            <a:off x="4572000" y="3200400"/>
            <a:ext cx="4191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ff"/>
                </a:solidFill>
                <a:latin typeface="Times New Roman"/>
              </a:rPr>
              <a:t>Se desea encontrar la ecuación que ajusta estos datos utilizando el método de los Mínimos Cuadrado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33ff"/>
                </a:solidFill>
                <a:latin typeface="Times New Roman"/>
              </a:rPr>
              <a:t>Determinar el valor de la densidad del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33520" y="1676520"/>
            <a:ext cx="7848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33520" y="1676520"/>
            <a:ext cx="784836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9933ff"/>
                </a:solidFill>
                <a:uFillTx/>
                <a:latin typeface="Times New Roman"/>
              </a:rPr>
              <a:t>Método </a:t>
            </a:r>
            <a:r>
              <a:rPr b="1" i="1" lang="es-MX" sz="2800" spc="-1" strike="noStrike" u="sng">
                <a:solidFill>
                  <a:srgbClr val="9933ff"/>
                </a:solidFill>
                <a:uFillTx/>
                <a:latin typeface="Times New Roman"/>
              </a:rPr>
              <a:t>de los Mínimos Cuadrados</a:t>
            </a:r>
            <a:br>
              <a:rPr sz="28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bsana limitaciones del método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99"/>
                </a:solidFill>
                <a:latin typeface="Times New Roman"/>
              </a:rPr>
              <a:t>Ventajas adi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0099"/>
                </a:solidFill>
                <a:latin typeface="Times New Roman"/>
              </a:rPr>
              <a:t>Es objetivo, sólo depende de los resultados experimen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0099"/>
                </a:solidFill>
                <a:latin typeface="Times New Roman"/>
              </a:rPr>
              <a:t>Es reproducible, proporciona l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a</a:t>
            </a:r>
            <a:r>
              <a:rPr b="0" lang="es-ES" sz="2000" spc="-1" strike="noStrike">
                <a:solidFill>
                  <a:srgbClr val="330099"/>
                </a:solidFill>
                <a:latin typeface="Times New Roman"/>
              </a:rPr>
              <a:t> mism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a ecuación</a:t>
            </a:r>
            <a:r>
              <a:rPr b="0" lang="es-ES" sz="2000" spc="-1" strike="noStrike">
                <a:solidFill>
                  <a:srgbClr val="330099"/>
                </a:solidFill>
                <a:latin typeface="Times New Roman"/>
              </a:rPr>
              <a:t> no importa quién realice el análisis</a:t>
            </a: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Proporciona una estimación probabilística de la ecuación que representa a unos datos experiment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0099"/>
                </a:solidFill>
                <a:latin typeface="Times New Roman"/>
              </a:rPr>
              <a:t>Proporciona intervalos pequeños de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ff"/>
                </a:solidFill>
                <a:uFillTx/>
                <a:latin typeface="Times New Roman"/>
              </a:rPr>
              <a:t>Sólo sirve para ajustar modelos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Times New Roman"/>
              </a:rPr>
              <a:t>Requiere tener, al menos, diez mediciones bajo las mismas circunstancias experimen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Times New Roman"/>
              </a:rPr>
              <a:t>Tales resultados deben estar descritos por una distribución de probabilidad conocida. La más común es la distribución normal o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Times New Roman"/>
              </a:rPr>
              <a:t>Se requiere de algún equipo de cálculo, de lo contrario, es muy engorr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533520" y="1676520"/>
            <a:ext cx="7848360" cy="26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ordenada al origen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cc0000"/>
                </a:solidFill>
                <a:latin typeface="Times New Roman"/>
              </a:rPr>
              <a:t>b = 0.032 ± 0.167 g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33520" y="1676520"/>
            <a:ext cx="7848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ordenada al origen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b = 0.032 ± 0.167 g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ecuación será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M = (1.000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005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) V + (0.0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2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Times New Roman"/>
              </a:rPr>
              <a:t>donde M está en g, y V está en 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33520" y="1676520"/>
            <a:ext cx="7848360" cy="37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ordenada al origen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b = 0.032 ± 0.167 g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ecuación será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M = (1.00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005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 V + (0.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2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dondeM está en g, y V está en 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parando los modelos teórico y experimental, observamos que la densidad es el inverso de la pendient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= 1/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533520" y="1676520"/>
            <a:ext cx="78483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ordenada al origen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b = 0.032 ± 0.167 g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ecuación será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M = (1.00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005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 V + (0.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2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dondeM está en g, y V está en 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parando los modelos teórico y experimental, sabemos que la densidad es el inverso de la pendient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= 1/m. Calculand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838080" y="4943520"/>
                <a:ext cx="2971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den>
                        </m:f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y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520" y="1676520"/>
            <a:ext cx="78483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ordenada al origen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b = 0.032 ± 0.167 g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ecuación será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M = (1.00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005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 V + (0.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2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dondeM está en g, y V está en 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parando los modelos teórico y experimental, sabemos que la densidad es el inverso de la pendient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= 1/m. Calculand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838080" y="4943520"/>
                <a:ext cx="2971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den>
                        </m:f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y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4032360" y="4878360"/>
                <a:ext cx="3892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5</m:t>
                                        </m:r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33520" y="1676520"/>
            <a:ext cx="784836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tilizando una hoja de cálcul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pendiente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 = 1.000 ± 0.005 g/ml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ordenada al origen: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b = 0.032 ± 0.167 g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a ecuación será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M = (1.00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005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 V + (0.0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0.2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dondeM está en g, y V está en 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parando los modelos teórico y experimental, sabemos que la densidad es el inverso de la pendient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= 1/m. Calculando ob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í pues, la densidad será: </a:t>
            </a:r>
            <a:r>
              <a:rPr b="1" lang="es-MX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ρ = </a:t>
            </a:r>
            <a:r>
              <a:rPr b="1" lang="es-MX" sz="2400" spc="-1" strike="noStrike">
                <a:solidFill>
                  <a:srgbClr val="3399ff"/>
                </a:solidFill>
                <a:latin typeface="Times New Roman"/>
              </a:rPr>
              <a:t>1.000</a:t>
            </a:r>
            <a:r>
              <a:rPr b="1" lang="es-MX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± 0.005</a:t>
            </a:r>
            <a:r>
              <a:rPr b="1" lang="es-MX" sz="2400" spc="-1" strike="noStrike">
                <a:solidFill>
                  <a:srgbClr val="3399ff"/>
                </a:solidFill>
                <a:latin typeface="Times New Roman"/>
              </a:rPr>
              <a:t> g/ml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838080" y="4943520"/>
                <a:ext cx="2971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den>
                        </m:f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y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4032360" y="4878360"/>
                <a:ext cx="3892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5</m:t>
                                        </m:r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33ff"/>
                </a:solidFill>
                <a:latin typeface="Times New Roman"/>
              </a:rPr>
              <a:t>Resumie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étodo 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MÉTODO SUBJETIVO, 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PROPORCIONA ERRORES 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GRANDE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 Y 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ES UNA ESTIMACIÓN 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PESIMISTA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SON NECESARIAS MENOS DE DIEZ MEDI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NO ES REPRODUC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NO ES NECESARIO TENER UNA CALCULADORA O COMPUTAD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PERMITE DECIDIR SI SE HACE UN EXPERIMENTO Y UN ANÁLISIS MÁS CUIDAD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Mínimos cuad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MÉTODO OBJETIVO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PROPORCIONA ERRORES 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PEQUEÑO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 ES UNA ESTIMACIÓN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 PROBABILÍSTIC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SE REQUIER DE, AL MENOS, DIEZ MEDICIONES BAJO LAS MISMAS CIRCUNSTANCIAS EXPERIMENT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</a:rPr>
              <a:t>DISTRIBUCIÓN DE PROBABILIDAD CONOCIDA</a:t>
            </a: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ES REPRODUCIBLE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SE NECESITA ALGÚN APARATO PARA CALCUL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finiciones Prelimin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método de los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mínimos cuadrado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nos permite </a:t>
            </a:r>
            <a:r>
              <a:rPr b="1" i="1" lang="es-MX" sz="3200" spc="-1" strike="noStrike">
                <a:solidFill>
                  <a:srgbClr val="0000ff"/>
                </a:solidFill>
                <a:latin typeface="Times New Roman"/>
              </a:rPr>
              <a:t>encontrar la ecuación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 una</a:t>
            </a:r>
            <a:r>
              <a:rPr b="1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s-MX" sz="3200" spc="-1" strike="noStrike" u="sng">
                <a:solidFill>
                  <a:srgbClr val="0000ff"/>
                </a:solidFill>
                <a:uFillTx/>
                <a:latin typeface="Times New Roman"/>
              </a:rPr>
              <a:t>recta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s-MX" sz="3200" spc="-1" strike="noStrike">
                <a:solidFill>
                  <a:srgbClr val="3399ff"/>
                </a:solidFill>
                <a:latin typeface="Times New Roman"/>
              </a:rPr>
              <a:t>partir de los datos experimentale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decir, utilizando solamente las mediciones experimentales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se obtendrá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la pendient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la ordenada al origen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de la recta que mejor se ajuste a tales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finiciones Prelimin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99ff"/>
                </a:solidFill>
                <a:latin typeface="Times New Roman"/>
              </a:rPr>
              <a:t>ASÍ PUES,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3200" spc="-1" strike="noStrike">
                <a:solidFill>
                  <a:srgbClr val="ff3300"/>
                </a:solidFill>
                <a:latin typeface="Times New Roman"/>
              </a:rPr>
              <a:t>SOLAMENTE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 NOS SIRVE PARA AJUSTA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c0000"/>
                </a:solidFill>
                <a:latin typeface="Times New Roman"/>
              </a:rPr>
              <a:t>MODELOS LIN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33ff"/>
                </a:solidFill>
                <a:latin typeface="Times New Roman"/>
              </a:rPr>
              <a:t>SI ESTE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es-MX" sz="3200" spc="-1" strike="noStrike">
                <a:solidFill>
                  <a:srgbClr val="9933ff"/>
                </a:solidFill>
                <a:latin typeface="Times New Roman"/>
              </a:rPr>
              <a:t> ES EL CAS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MX" sz="3200" spc="-1" strike="noStrike">
                <a:solidFill>
                  <a:srgbClr val="cc00cc"/>
                </a:solidFill>
                <a:latin typeface="Times New Roman"/>
              </a:rPr>
              <a:t>SE DEBE BUSCAR OTRO MÉTODO DE 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finiciones Prelimin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El método de los mínimos cuadrados se calcula en base al sigu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Times New Roman"/>
              </a:rPr>
              <a:t>CRIT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0099"/>
                </a:solidFill>
                <a:latin typeface="Times New Roman"/>
              </a:rPr>
              <a:t>La distancia del punto experimental a la “mejor recta” es mí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259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800" spc="-1" strike="noStrike">
                <a:solidFill>
                  <a:srgbClr val="cc0000"/>
                </a:solidFill>
                <a:latin typeface="Times New Roman"/>
              </a:rPr>
              <a:t>DIBUJAM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3300"/>
                </a:solidFill>
                <a:latin typeface="Times New Roman"/>
              </a:rPr>
              <a:t>UNOS EJES DE COORDE-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3200400" y="19810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048120" y="61722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971800" y="6172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8153280" y="620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971800" y="1905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560" y="1981080"/>
            <a:ext cx="30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MX" sz="2800" spc="-1" strike="noStrike">
                <a:solidFill>
                  <a:srgbClr val="cc0000"/>
                </a:solidFill>
                <a:latin typeface="Times New Roman"/>
              </a:rPr>
              <a:t>GRAFICAM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3300"/>
                </a:solidFill>
                <a:latin typeface="Times New Roman"/>
              </a:rPr>
              <a:t>LOS PUNTOS EXPERIMEN-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200400" y="19810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3048120" y="61722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971800" y="6172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267080" y="4495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3526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038480" y="525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876920" y="4800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105520" y="4267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638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58672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6477120" y="3962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705720" y="3429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315200" y="350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7467480" y="3048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153280" y="620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2971800" y="19051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FISICA</dc:creator>
  <dc:description/>
  <dc:language>en-US</dc:language>
  <cp:lastModifiedBy>Colossus User</cp:lastModifiedBy>
  <dcterms:modified xsi:type="dcterms:W3CDTF">2010-10-26T12:17:46Z</dcterms:modified>
  <cp:revision>86</cp:revision>
  <dc:subject/>
  <dc:title>Estadística</dc:title>
</cp:coreProperties>
</file>